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FDA-A972-47A8-8A1D-AAC21CB2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28C-198B-411E-9AE6-E41E0620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577-B216-4155-B687-8ED00780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BDD-D92B-4E57-A4B4-3F99E4BE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3A6-6187-4447-B7B1-0BA6B79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DEB-340D-496A-B876-09C375E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FB1-37BD-472F-BF8E-AA208A8F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BC9-C066-434E-B008-F505D2C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35A-B272-4AA6-89B2-25F95892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FDB-8B1C-46E8-B866-AA1A44E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417-1089-46B1-A942-C7C883D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E8F-8611-48AB-966D-55EA17D2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1522-C937-4D41-8681-362E15C1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30492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5 Kinematic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-533520"/>
            <a:ext cx="3497400" cy="6019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175284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72480" y="1447920"/>
            <a:ext cx="21715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91120" y="2666880"/>
            <a:ext cx="2587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4637160"/>
            <a:ext cx="9067680" cy="2220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77120" y="259092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Many of his experimental apparatus can be found at the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Museo di Storia della Scienza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 in Florence,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261144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522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we have the  5 Kinematic Equ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alileo didn’t exactly write them algebraically like this, but he set up the ideas for measuring v, a, d and t and showed through reasoning, measurement  proportions how v, d , a  and t related to one another. Note there is no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t in Physics…that will come later with Isaac New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1293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48040" cy="1946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298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181476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00400" y="2743200"/>
            <a:ext cx="6324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748040" cy="1946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600" y="2057400"/>
            <a:ext cx="3809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209680"/>
            <a:ext cx="76212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00600" y="3048120"/>
          <a:ext cx="3200400" cy="321768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7524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½ a t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8148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Distance v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492200" cy="1773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498320" cy="159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99072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11430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meters east in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1828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eters south in 1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505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travele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114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11480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715000"/>
            <a:ext cx="25905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791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79132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Vector mathematics is different than scalar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must be drawn to scale and connected head-to-tail.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066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l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an be added with regular math. 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352680"/>
            <a:ext cx="17528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362320" y="53337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53341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962520" y="464796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81120" y="45720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143000" y="48006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914400" cy="1087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87360" cy="1368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533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33520"/>
            <a:ext cx="15242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142640" y="609120"/>
            <a:ext cx="42670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129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1208160" cy="1417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2860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 runner travels 5 miles before Marvin sends him back.  Road runner takes a shortcut back that saves him a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3886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hole round trip took 1 hour,  what is roadrunner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speed?                             b) displacemen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the total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veled divided by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otal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1371600"/>
            <a:ext cx="1524240" cy="764640"/>
            <a:chOff x="1295280" y="1371600"/>
            <a:chExt cx="1524240" cy="764640"/>
          </a:xfrm>
        </p:grpSpPr>
        <p:sp>
          <p:nvSpPr>
            <p:cNvPr id="49" name=""/>
            <p:cNvSpPr/>
            <p:nvPr/>
          </p:nvSpPr>
          <p:spPr>
            <a:xfrm>
              <a:off x="12952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3372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0" y="1676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8600" y="2438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an acceleratio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midpoint between the initial and final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05120" y="3733920"/>
            <a:ext cx="2438280" cy="992880"/>
            <a:chOff x="1905120" y="3733920"/>
            <a:chExt cx="2438280" cy="992880"/>
          </a:xfrm>
        </p:grpSpPr>
        <p:sp>
          <p:nvSpPr>
            <p:cNvPr id="56" name=""/>
            <p:cNvSpPr/>
            <p:nvPr/>
          </p:nvSpPr>
          <p:spPr>
            <a:xfrm>
              <a:off x="274320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905120" y="3733920"/>
              <a:ext cx="2438280" cy="992880"/>
              <a:chOff x="1905120" y="3733920"/>
              <a:chExt cx="2438280" cy="992880"/>
            </a:xfrm>
          </p:grpSpPr>
          <p:sp>
            <p:nvSpPr>
              <p:cNvPr id="58" name=""/>
              <p:cNvSpPr/>
              <p:nvPr/>
            </p:nvSpPr>
            <p:spPr>
              <a:xfrm>
                <a:off x="2666880" y="373392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9548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0512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19720" cy="401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715000" y="2895120"/>
            <a:ext cx="1295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00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ind the average speed in the first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25780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ind the average speed in the first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2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1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earrange these equations to create other useful equation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Let’s derive an equation for the distance traveled by an accelerating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143000"/>
            <a:ext cx="1524240" cy="1015920"/>
            <a:chOff x="1295280" y="1143000"/>
            <a:chExt cx="1524240" cy="1015920"/>
          </a:xfrm>
        </p:grpSpPr>
        <p:grpSp>
          <p:nvGrpSpPr>
            <p:cNvPr id="69" name=""/>
            <p:cNvGrpSpPr/>
            <p:nvPr/>
          </p:nvGrpSpPr>
          <p:grpSpPr>
            <a:xfrm>
              <a:off x="1295280" y="1371600"/>
              <a:ext cx="1524240" cy="764640"/>
              <a:chOff x="1295280" y="1371600"/>
              <a:chExt cx="1524240" cy="764640"/>
            </a:xfrm>
          </p:grpSpPr>
          <p:sp>
            <p:nvSpPr>
              <p:cNvPr id="70" name=""/>
              <p:cNvSpPr/>
              <p:nvPr/>
            </p:nvSpPr>
            <p:spPr>
              <a:xfrm>
                <a:off x="1295280" y="1371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3720" y="1371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--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676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7920" y="1447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133720" y="114300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895480" y="1066680"/>
            <a:ext cx="2438280" cy="992880"/>
            <a:chOff x="2895480" y="1066680"/>
            <a:chExt cx="2438280" cy="992880"/>
          </a:xfrm>
        </p:grpSpPr>
        <p:grpSp>
          <p:nvGrpSpPr>
            <p:cNvPr id="76" name=""/>
            <p:cNvGrpSpPr/>
            <p:nvPr/>
          </p:nvGrpSpPr>
          <p:grpSpPr>
            <a:xfrm>
              <a:off x="2895480" y="1066680"/>
              <a:ext cx="2438280" cy="992880"/>
              <a:chOff x="2895480" y="1066680"/>
              <a:chExt cx="2438280" cy="992880"/>
            </a:xfrm>
          </p:grpSpPr>
          <p:sp>
            <p:nvSpPr>
              <p:cNvPr id="77" name=""/>
              <p:cNvSpPr/>
              <p:nvPr/>
            </p:nvSpPr>
            <p:spPr>
              <a:xfrm>
                <a:off x="3657240" y="106668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85840" y="15998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1447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81280" y="16002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5800" y="2133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olve the right side for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v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74320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   v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514600"/>
            <a:ext cx="1981080" cy="380880"/>
          </a:xfrm>
          <a:custGeom>
            <a:avLst/>
            <a:gdLst>
              <a:gd name="textAreaLeft" fmla="*/ 660240 w 1981080"/>
              <a:gd name="textAreaRight" fmla="*/ 1697040 w 19810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3124080"/>
            <a:ext cx="3124080" cy="993240"/>
            <a:chOff x="4648320" y="3124080"/>
            <a:chExt cx="3124080" cy="993240"/>
          </a:xfrm>
        </p:grpSpPr>
        <p:sp>
          <p:nvSpPr>
            <p:cNvPr id="88" name=""/>
            <p:cNvSpPr/>
            <p:nvPr/>
          </p:nvSpPr>
          <p:spPr>
            <a:xfrm>
              <a:off x="4648320" y="312408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880" y="34290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lets int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 = (Vf – Vi)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822400"/>
            <a:ext cx="6459480" cy="4925160"/>
          </a:xfrm>
          <a:custGeom>
            <a:avLst/>
            <a:gdLst>
              <a:gd name="textAreaLeft" fmla="*/ 2153160 w 6459480"/>
              <a:gd name="textAreaRight" fmla="*/ 5532480 w 6459480"/>
              <a:gd name="textAreaTop" fmla="*/ 2836440 h 4925160"/>
              <a:gd name="textAreaBottom" fmla="*/ 4218480 h 4925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f – Vi)/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e can substitute abov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19520" y="3580920"/>
            <a:ext cx="3733560" cy="1296000"/>
            <a:chOff x="2819520" y="3580920"/>
            <a:chExt cx="3733560" cy="1296000"/>
          </a:xfrm>
        </p:grpSpPr>
        <p:sp>
          <p:nvSpPr>
            <p:cNvPr id="93" name=""/>
            <p:cNvSpPr/>
            <p:nvPr/>
          </p:nvSpPr>
          <p:spPr>
            <a:xfrm>
              <a:off x="2819520" y="4876920"/>
              <a:ext cx="3733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553080" y="35809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04920" y="60357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can expand out the parenthesis and derive equation #5 from this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4280" y="5105520"/>
            <a:ext cx="3810240" cy="916920"/>
            <a:chOff x="4724280" y="5105520"/>
            <a:chExt cx="3810240" cy="916920"/>
          </a:xfrm>
        </p:grpSpPr>
        <p:sp>
          <p:nvSpPr>
            <p:cNvPr id="98" name=""/>
            <p:cNvSpPr/>
            <p:nvPr/>
          </p:nvSpPr>
          <p:spPr>
            <a:xfrm>
              <a:off x="4724280" y="5105520"/>
              <a:ext cx="381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(Vf – Vi)/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903320" cy="32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29000" y="38088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838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52280"/>
            <a:ext cx="342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+ 2 a 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14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handy equation used to 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876920" cy="365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1981080"/>
            <a:ext cx="4800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 car accelerates from a speed of 20 m/s  to 30 m/s at an acceleration of 2.0 m/s</a:t>
            </a:r>
            <a:r>
              <a:rPr b="0" i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How far will the car travel during this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will an object dropped from rest  be moving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will an object dropped from rest  have fallen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rrangement of equation #2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838080"/>
            <a:ext cx="11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9144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t = Vf -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447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V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057400"/>
            <a:ext cx="525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= 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+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which is equa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A rocket moving at 1000 m/s accelerates at 2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10 seconds to achieve a higher orbit.  What will its new speed be after it reaches its new orbi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760716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8240" y="2789280"/>
            <a:ext cx="7607520" cy="1279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760716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85800" y="5638680"/>
            <a:ext cx="76071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07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4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447920"/>
            <a:ext cx="899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’s equation #4:    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6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6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9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xample:  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A car traveling at 10 m/s accelerates for 5.0 s at a rate of 2.5 m/s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Disney Print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.  How far will it travel during those 5.0 seco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0:41:53Z</dcterms:created>
  <dc:creator>A satisfied Microsoft Office User</dc:creator>
  <dc:description/>
  <dc:language>en-US</dc:language>
  <cp:lastModifiedBy>SOCSD</cp:lastModifiedBy>
  <dcterms:modified xsi:type="dcterms:W3CDTF">2008-09-11T12:04:53Z</dcterms:modified>
  <cp:revision>18</cp:revision>
  <dc:subject/>
  <dc:title>PowerPoint Presentation</dc:title>
</cp:coreProperties>
</file>